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89D-5464-43B7-A22D-E94B0D93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40F-D7B3-46F9-A3D7-800FE473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153-DF2C-4711-BAE6-4AF56581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534-0684-4FAB-A89F-DA7806A9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6E6-DB89-4670-8E69-0D993895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8D5-1172-49BE-9EF6-3985295B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0FE-EA00-433D-88E5-2C9B80AE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D42-80D5-4594-933C-D144DB74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A7E-7923-490E-8A07-30BE1C7B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C1C-7AD3-44C8-ABC0-62998094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1A2-68A2-4ACE-A1E3-EC7DCA9C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000-0024-4FEA-8CA6-9F32AA4A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3D56-B24B-4281-BFE5-8F2E98058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9600" spc="-1" strike="noStrike">
                <a:solidFill>
                  <a:srgbClr val="000000"/>
                </a:solidFill>
                <a:latin typeface="Arial"/>
              </a:rPr>
              <a:t>Top of the Poppadams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8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9600" spc="-1" strike="noStrike">
                <a:solidFill>
                  <a:srgbClr val="000000"/>
                </a:solidFill>
                <a:latin typeface="Arial"/>
              </a:rPr>
              <a:t>All the Raj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read and annotate on the Jay Sean article, consider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parts of his upbringing were stereotypically ‘Asian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was he initially treated by the p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and why did this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do you think he is more successful in the US than the U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his Sikh roots still important to h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ay Sean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parts of his upbringing were stereotypically ‘Asian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ution (only quit job after signing contrac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ance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ying property to rent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ther a busines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status professional qua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ay Sean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as Jay Sean initially treated by the p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an ‘Asian’ rather than a ‘British’ R&amp;B s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lines like “Top of the Popadums” and “All the Raj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nd why did this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-modelled himself - ditched Indian samples and his old, spiky-haired Asian look for a poppier R&amp;B v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ay Sean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 you think he is more successful in the US than the U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 care less (and know less) about his ethnicity – “I had a clean sla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is Sikh roots still important to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s, he is still proud of hi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believes he has helped young Asians aspire to him as a rol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4:20:18Z</dcterms:created>
  <dc:creator>#</dc:creator>
  <dc:description/>
  <dc:language>en-US</dc:language>
  <cp:lastModifiedBy>#</cp:lastModifiedBy>
  <dcterms:modified xsi:type="dcterms:W3CDTF">2009-11-17T14:21:06Z</dcterms:modified>
  <cp:revision>1</cp:revision>
  <dc:subject/>
  <dc:title>“Top of the Poppadams”</dc:title>
</cp:coreProperties>
</file>